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C4B-819C-4A55-BC2A-152A70A4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168-7BA5-4976-AAD2-7AFE9843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58E-C2F1-45F0-BA6B-2D6376DC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DF6-016C-4525-A8B0-0FC2A92F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169-04E6-437A-8154-DBDD6AE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024-5DF6-4977-8FDE-ADCC837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724-E0BE-4780-BE0D-F1803CAE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27A-F259-44D3-84B3-77C6B5F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271-85E6-4E93-ABCA-5B38BCF5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381-8C9C-4F1E-996F-E1DD351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4B3-459A-476C-A598-F7F2D84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C38-D247-4ECB-85D7-FCD9FF38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95A-E1E3-43B5-8EBD-119631977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socst</cp:lastModifiedBy>
  <dcterms:modified xsi:type="dcterms:W3CDTF">2010-01-14T20:42:54Z</dcterms:modified>
  <cp:revision>45</cp:revision>
  <dc:subject/>
  <dc:title>No Slide Title</dc:title>
</cp:coreProperties>
</file>